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786E-EC3F-428C-A267-5D94A275A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1936-0F1E-4612-ADCB-AD0C1D43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3540-BAE1-45F1-8991-7D2C757A3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B574-D3E1-4B3A-8A05-A9505C56F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8AC0-E86D-450D-8BD0-BD2471523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09CA-84C8-46FD-871D-7A11D976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CC15-7CF0-442E-B29C-E01863BC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3B050-8329-4F33-9AD3-08D8D42D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082A-5785-43E8-8AF3-39B21F7D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C7E3-90E2-451B-89F1-1E0F6731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67A6-B410-4027-B7CA-E0DEFD86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2F5C-86FB-4F32-9245-9A8FE532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9285-E5A1-4BEB-8D61-5881A7CE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BC44-45C8-49BD-AE36-ACF7DDF9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094F-FBEB-4C7F-8158-52C6F6C4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73B5-A02B-4F44-A6E3-1C4432EBA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74B4-42B5-422B-93BA-E8C865E05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CD89-CCA6-4454-A3E9-ACADDE1C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D805-5870-4196-B097-80C82E18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3137-12F4-491C-A9A9-D05DFB50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AF98-32E8-41C0-84A6-13D26783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509A-B616-419E-B81C-4FA03065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1C4B-C61B-41F0-B190-5422D1E2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DA1A-1E3E-4A0B-ABE5-9999E13F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BB8C-4A72-4578-BF33-0EE48599BB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670F-50C3-4CD1-8A71-19655ED95D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ubul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ECO-SCOLARII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Liceul de Stiințe ale Natur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b7"/>
                </a:solidFill>
                <a:latin typeface="Arial Black"/>
              </a:rPr>
              <a:t>Activități prop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Curațarea Parcului Cent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Plantarea de puieți în gradina școl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Curațarea albiei râului ce trece prin locali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Acțiuni de colectare a hârtie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b7"/>
                </a:solidFill>
                <a:latin typeface="Arial Black"/>
              </a:rPr>
              <a:t>Invățăm să reciclăm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338200" y="1869840"/>
            <a:ext cx="4191120" cy="4190400"/>
            <a:chOff x="2338200" y="1869840"/>
            <a:chExt cx="4191120" cy="4190400"/>
          </a:xfrm>
        </p:grpSpPr>
        <p:sp>
          <p:nvSpPr>
            <p:cNvPr id="104" name="_s7179"/>
            <p:cNvSpPr/>
            <p:nvPr/>
          </p:nvSpPr>
          <p:spPr>
            <a:xfrm>
              <a:off x="3008160" y="1869840"/>
              <a:ext cx="2851200" cy="2850840"/>
            </a:xfrm>
            <a:custGeom>
              <a:avLst/>
              <a:gdLst>
                <a:gd name="textAreaLeft" fmla="*/ 0 w 2851200"/>
                <a:gd name="textAreaRight" fmla="*/ 2851560 w 2851200"/>
                <a:gd name="textAreaTop" fmla="*/ 0 h 2850840"/>
                <a:gd name="textAreaBottom" fmla="*/ 2850840 h 285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008000"/>
                </a:gs>
              </a:gsLst>
              <a:lin ang="8100000"/>
            </a:gradFill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7180"/>
            <p:cNvSpPr/>
            <p:nvPr/>
          </p:nvSpPr>
          <p:spPr>
            <a:xfrm rot="5400000">
              <a:off x="3678120" y="2539440"/>
              <a:ext cx="2850840" cy="2851200"/>
            </a:xfrm>
            <a:custGeom>
              <a:avLst/>
              <a:gdLst>
                <a:gd name="textAreaLeft" fmla="*/ 0 w 2850840"/>
                <a:gd name="textAreaRight" fmla="*/ 2850840 w 2850840"/>
                <a:gd name="textAreaTop" fmla="*/ 0 h 2851200"/>
                <a:gd name="textAreaBottom" fmla="*/ 2851560 h 285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008000"/>
                </a:gs>
              </a:gsLst>
              <a:lin ang="2700000"/>
            </a:gradFill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7184"/>
            <p:cNvSpPr/>
            <p:nvPr/>
          </p:nvSpPr>
          <p:spPr>
            <a:xfrm rot="10800000">
              <a:off x="3008160" y="3209400"/>
              <a:ext cx="2851200" cy="2850840"/>
            </a:xfrm>
            <a:custGeom>
              <a:avLst/>
              <a:gdLst>
                <a:gd name="textAreaLeft" fmla="*/ 0 w 2851200"/>
                <a:gd name="textAreaRight" fmla="*/ 2851560 w 2851200"/>
                <a:gd name="textAreaTop" fmla="*/ 0 h 2850840"/>
                <a:gd name="textAreaBottom" fmla="*/ 2850840 h 285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008000"/>
                </a:gs>
              </a:gsLst>
              <a:lin ang="189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7182"/>
            <p:cNvSpPr/>
            <p:nvPr/>
          </p:nvSpPr>
          <p:spPr>
            <a:xfrm rot="16200000">
              <a:off x="2338200" y="2539080"/>
              <a:ext cx="2850840" cy="2851200"/>
            </a:xfrm>
            <a:custGeom>
              <a:avLst/>
              <a:gdLst>
                <a:gd name="textAreaLeft" fmla="*/ 0 w 2850840"/>
                <a:gd name="textAreaRight" fmla="*/ 2850840 w 2850840"/>
                <a:gd name="textAreaTop" fmla="*/ 0 h 2851200"/>
                <a:gd name="textAreaBottom" fmla="*/ 2851560 h 285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7177"/>
            <p:cNvSpPr/>
            <p:nvPr/>
          </p:nvSpPr>
          <p:spPr>
            <a:xfrm>
              <a:off x="5192640" y="2131920"/>
              <a:ext cx="1074600" cy="10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mercia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7178"/>
            <p:cNvSpPr/>
            <p:nvPr/>
          </p:nvSpPr>
          <p:spPr>
            <a:xfrm>
              <a:off x="5194080" y="4722480"/>
              <a:ext cx="107496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sumat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7181"/>
            <p:cNvSpPr/>
            <p:nvPr/>
          </p:nvSpPr>
          <p:spPr>
            <a:xfrm>
              <a:off x="2600280" y="2134800"/>
              <a:ext cx="107460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ffffff"/>
                  </a:solidFill>
                  <a:latin typeface="Arial"/>
                </a:rPr>
                <a:t>Producat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7183"/>
            <p:cNvSpPr/>
            <p:nvPr/>
          </p:nvSpPr>
          <p:spPr>
            <a:xfrm>
              <a:off x="2603520" y="4725720"/>
              <a:ext cx="1074600" cy="10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ffffff"/>
                  </a:solidFill>
                  <a:latin typeface="Arial"/>
                </a:rPr>
                <a:t>Centru de reciclar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ffffff"/>
                  </a:solidFill>
                  <a:latin typeface="Arial"/>
                </a:rPr>
                <a:t>a deșeuril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b7"/>
                </a:solidFill>
                <a:latin typeface="Arial Black"/>
              </a:rPr>
              <a:t>Protejați NATURA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21:07:08Z</dcterms:created>
  <dc:creator>AS</dc:creator>
  <dc:description/>
  <dc:language>en-US</dc:language>
  <cp:lastModifiedBy>AS</cp:lastModifiedBy>
  <dcterms:modified xsi:type="dcterms:W3CDTF">2010-01-08T19:21:12Z</dcterms:modified>
  <cp:revision>7</cp:revision>
  <dc:subject/>
  <dc:title>Clubul  ECO-SCOLARII</dc:title>
</cp:coreProperties>
</file>